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113-E7CD-4E8E-BB48-0F13FED1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EBF-BAB9-4399-9970-03D920E1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758-94FF-466E-A528-E13558D4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E6A-AD82-4D32-ACDC-B6652368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342-C9FC-4800-BAAC-CC78AB25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D18-AC0E-4119-9DF4-023D935B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172-9E40-4F12-9957-7B3E1773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88B-A6B5-4B16-A8E4-C98B0681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780-6B17-4684-ABFB-05F4C6C8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8F2-9E0B-4CB9-BF1F-C0E2EA90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AF7-2DC2-45D4-A115-AE88C104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9FE-1892-4DB7-A5F8-7A1F200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7B0B-0DFA-4E60-9A6C-5C03FE523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4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7480" y="-857160"/>
            <a:ext cx="74520" cy="96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24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867120"/>
            <a:ext cx="5619600" cy="299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7720" y="2971800"/>
            <a:ext cx="47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HELP PITTSBURG KEEP CLEAN!!!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095880" y="4172040"/>
            <a:ext cx="30481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380880"/>
            <a:ext cx="6096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cycl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3809880"/>
            <a:ext cx="5791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Do you want to save the planet? Yes?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 Then recycle! It’ll 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help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 the planet and the animals on it. 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Have fun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 while recycling. Make it a game! Have fun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Showcard Gothic"/>
              </a:rPr>
              <a:t>save the plan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45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7524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3c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2856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22860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RECYCLE!!!!!!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11:32Z</dcterms:created>
  <dc:creator>mes5c</dc:creator>
  <dc:description/>
  <dc:language>en-US</dc:language>
  <cp:lastModifiedBy>mes5c</cp:lastModifiedBy>
  <dcterms:modified xsi:type="dcterms:W3CDTF">2011-02-03T13:12:46Z</dcterms:modified>
  <cp:revision>5</cp:revision>
  <dc:subject/>
  <dc:title>Slide 1</dc:title>
</cp:coreProperties>
</file>